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  <p:sldId id="365" r:id="rId128"/>
    <p:sldId id="366" r:id="rId129"/>
    <p:sldId id="367" r:id="rId130"/>
    <p:sldId id="368" r:id="rId131"/>
    <p:sldId id="369" r:id="rId132"/>
    <p:sldId id="370" r:id="rId133"/>
    <p:sldId id="371" r:id="rId134"/>
    <p:sldId id="372" r:id="rId135"/>
    <p:sldId id="373" r:id="rId136"/>
    <p:sldId id="374" r:id="rId1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slide" Target="slides/slide110.xml"/><Relationship Id="rId129" Type="http://schemas.openxmlformats.org/officeDocument/2006/relationships/slide" Target="slides/slide111.xml"/><Relationship Id="rId130" Type="http://schemas.openxmlformats.org/officeDocument/2006/relationships/slide" Target="slides/slide112.xml"/><Relationship Id="rId131" Type="http://schemas.openxmlformats.org/officeDocument/2006/relationships/slide" Target="slides/slide113.xml"/><Relationship Id="rId132" Type="http://schemas.openxmlformats.org/officeDocument/2006/relationships/slide" Target="slides/slide114.xml"/><Relationship Id="rId133" Type="http://schemas.openxmlformats.org/officeDocument/2006/relationships/slide" Target="slides/slide115.xml"/><Relationship Id="rId134" Type="http://schemas.openxmlformats.org/officeDocument/2006/relationships/slide" Target="slides/slide116.xml"/><Relationship Id="rId135" Type="http://schemas.openxmlformats.org/officeDocument/2006/relationships/slide" Target="slides/slide117.xml"/><Relationship Id="rId136" Type="http://schemas.openxmlformats.org/officeDocument/2006/relationships/slide" Target="slides/slide118.xml"/><Relationship Id="rId137" Type="http://schemas.openxmlformats.org/officeDocument/2006/relationships/slide" Target="slides/slide119.xml"/><Relationship Id="rId1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4A9A-A287-40B3-8C9C-881165B1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61FA-2053-4817-A620-E8EAA77C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49121-40E7-4AEB-8F7B-EBB8F93F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40579-8CA2-44CC-BC91-A9B35BE5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74724-DE6E-4BF9-9AF0-43D1240D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C4C9E-E989-46F3-97FC-06362D7C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77590-9540-4A69-A84C-2C831483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F8195-9CBB-4F01-86EB-ABA831F1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3C68D-9DC7-4004-BEF5-BD771B78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4078E-B43A-4FBC-B809-1B272640B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EB42A-E1ED-4F2E-A4ED-3E711AD1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1BEB2-97F1-4A27-B9F1-109B1E07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CE5F-7C2A-4AC0-AAFC-B4FFBF18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35176-48DA-49AE-9FA1-4CC51BB8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5B1D5-C312-48F4-AC59-9B987C8F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DB17D7-EFD8-40C4-AED3-CB140C66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B597B-E9E5-4D94-B888-D0B707D8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38876-CD3B-47DB-8596-2A30B2FE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9B77B2-1D02-47DA-A672-F1AB5702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CAEBE-5E3E-4FD8-B2AF-9605861D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3B4EA-6C92-4617-AA27-FB52A0D9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29C205-5510-4E3D-BCE9-B25E6909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A58C6-73F5-457B-9441-9F13CC7C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F0E8-C23C-4688-8BBB-5C0FCCDE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FA263-3487-4C60-9371-31937CDEB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6DB08-A6F4-4582-8B64-E3E5882A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9F354-034B-4CCA-8101-3B0C1800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CB2EE-E682-4895-8CCC-BAFF22D5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2A664-27C1-4878-A9D2-7BF7E9FA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EAE95-7C67-4674-A619-1D3C742D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AA300-1A64-4C3B-A762-A8372428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D94E7-3263-4D70-BB1D-75F5C89E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64CD8-F045-404C-AEC2-E1ADD4BC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15162-05C7-4814-A52E-B72557F1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FC46-92D6-4546-9C67-51E6DA975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782D3-7001-4DFC-8419-D0624024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4536F-16C9-4096-9C9A-8B238276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DFC1C-6C34-45D4-B413-92D7C00E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EC4CD-A1D6-4DA3-955C-D0FABA52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037E8-2CE4-4E3C-B4F2-2B68238E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72F35-650B-483C-A2E9-084E64E4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FEFEB-2D49-49A9-B1B9-A9CA75CE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45A38-B3AD-4764-9CD3-A4C5CB70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AE9D6-E9FE-4517-8C28-B35F4AA7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6D91E-2427-4E17-A187-272878F9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5B6D-F63B-4E9F-8589-82949A5E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027CE-CFC3-4EFF-8842-F5AD3417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A662B-3327-4B5C-8C09-C9D29411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E8ABB-F607-4A51-8889-1696822C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3F7661-199D-4523-AA4E-9C523ADC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1FE9A-2FE0-4575-BD93-BF239283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217AB-889C-417D-8C07-12C2DBCBC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636EAE-B59B-47BB-8EBD-08631FFE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CE5274-D248-41A2-97A0-0717D0BF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FFCD0-8D8D-4468-880F-7FCE1CAE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FBDD6-A6B7-4D4B-94EB-08FCB595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03B0A-3B08-4CB4-98F8-6E7888B7C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0FA4F-7967-4B6D-B28A-94335274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ABEB93-3E64-4683-B080-91132E30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4A3EDA-58E3-4A88-BBD2-2FD3F138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D5FA5-259A-457F-8E91-D86604DC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3D854-07F5-4F49-AC4C-D9A5D3CE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424760-F940-407D-A441-64C2E799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1E5F9-81E7-4CAC-B05E-A49E9DEC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006EF-199A-497C-82DC-EAE56C3E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84DBE2-08B9-4345-B8BF-FAF74A3E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83FE05-7405-4667-9AAF-CDBCCB5F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BCCB3-9711-4A79-A3C3-B99F5211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9A29F-A728-4F0D-AF57-B71B1EB7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899055-0DF2-48B8-BB7C-B9A43F73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6E3C3-0431-4E59-A8B1-2FB3F1B6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C4FB0E-0E55-43BB-A1E0-6AA17B81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BC691F-B745-40C9-A021-F65B3F2E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3933D0-E0B3-4D57-B7C1-CF1D7994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C6CD61-7873-4F7F-89A2-372F8007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F44B5-1A64-4D49-81BE-217150E6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CD9DAE-A8D1-4A8D-901F-114EE699F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8C0BD8-CF58-45F3-B351-F505405A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91CF-40CF-4BE2-9C8A-DE733A34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20BEF-2E67-4F2A-8DFC-D7298636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034E8-4F95-4D15-9F35-1A78D34E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DAEF2A-4695-4AFC-8D98-C574E1F0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5E6EFC-79BC-4F2A-B14B-BEB2AF1F6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DC117-ABB4-4AB1-B9B4-D2E2C708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C90C1F-61DF-4CBA-9544-BD9D2ACC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19A25-1B43-4969-A432-7635DAEC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F9D007-54C3-4CFA-B5DC-1B7A7B4D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BFD3C-C883-4FEC-89F0-77B3392D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A4024-C4E6-4767-B1AC-634BA1B3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D19B6-2620-458F-B0D6-1DA31538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0B3C6-0173-41ED-B1A8-FBBC5E2D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D4E2A0-70FC-4B43-89D5-3858DFA7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6854E0-1ABB-483E-BC36-3993DEAF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8C615E-5EFD-46C4-9938-C13C046E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9FFFEA-69AF-43DA-8CBE-08FDCC1D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672546-D27E-42AA-AA97-E28470AA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9C07FC-EAC9-4E2B-832C-29944E29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294031-41D1-44B0-9956-CF265A3B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B71F04-0096-4220-B6DB-7D6E8693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6CA18-D963-4169-B516-9BA436AD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9446-AEF3-40AE-873B-EDF429F6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DBA45F-15FB-4CDF-857F-F09751BF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2F11B3-368A-43C1-9810-6938F879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FAD158-97EF-4ACB-9006-0C64D8DA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C7865-33F4-4B56-A2F5-36E120EED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7367D9-3DF3-4B0B-8170-B8CCC005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6F1AF-2FD8-48AC-B482-D3CA5B10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7525A0-891F-4699-B3CA-32F0CA7A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3B546-1741-4E40-A697-3E777BC1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E57A4-0C4A-41D5-AB53-5CB80232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64A9CB-A7EE-413C-81ED-BCEBBC57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0BC-D78D-4C9D-8250-FF068EA1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4661-17D0-4D16-9291-93E04599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B382F1-E054-4FCC-A90D-2CE6D041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E1AEB-032B-4472-B7D9-BD86399E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84460D-2930-4E23-8504-97D1610A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1AA0CF-5925-4936-9EFC-7BF78E39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1608F-5CED-4EEB-8899-4A57D8F7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F722-31AC-4998-94D1-44AEEA27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9282-8936-4C5D-87F5-33602C6C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4133-E128-4AFB-9D3A-AF3125EC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09E4-83FC-4D09-8A03-78E36C2FB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2662-5D82-4017-AABE-9EA0BDE9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BDF7D-FCC5-4AA0-B2B0-0F361FCE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DF41B-5DBD-4F41-8FED-D84D5C14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467B0-96A6-4B7C-8B8E-5718006D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106D8-FC9F-4468-B45D-54D723E9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A8ED-6A95-4857-B7AD-6B59BED2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4C073-2107-4359-95FB-F1B9E183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F88B1-42E6-454D-A082-310524D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5E370-BFFB-474E-8D18-612969B3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2F928-F1EB-495F-8B7A-B7905829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88107-8779-4923-A9BA-0064A32B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CC108-5392-44E2-A0BA-B4F1BD55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F1233-C31A-46AF-8BBC-2008B341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88B16-7586-4BDE-9429-16A1CBF4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6F2AD-4A56-4EDD-86B9-F9642984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35364-5749-4395-9489-0F70275E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9E7A-C383-4CEE-AD4A-8EF198A8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ADDFEA-7F15-4A4B-B56D-8E05D82B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35309-6C95-4EB5-A486-9B328B87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AD22D-E4BC-46B4-8E8B-A53C4EB4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F6589-C57F-419C-BA5E-80CC429F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7A58-451A-4BDD-B054-28A3D398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492B6-4B9E-49C8-BBED-6029F73E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C10F5-A0B3-4F6D-8F98-E835C200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01177-186A-4289-990A-B29DABA2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17D88-F9C1-4021-BA62-57E67A8D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D654D-4444-48BA-AD18-90D308BD8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C676-3F41-45FF-AE0C-AFBD336D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FAADC-3471-4680-8DA8-0D98EEBE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8B8EB-E063-4191-9397-205B32EB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AF0D8-AC2A-455D-8169-98EEB0C2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2995C-86F8-4972-B4AC-C96F9C62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8DEF9-D98F-4904-B0D8-B494BDC3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E55AB-65FE-4B22-90BB-842C3E21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4EACE-E786-4923-99D8-F9FEF6CC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15AE6-4418-45C1-9E8B-A8A80422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EEA5E-A9C0-4E9C-807F-7FB3C6DD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4AF90-88D4-4309-B94E-3B962B32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C44D-5BEC-4708-BB93-360F7BF2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B26B-6703-422D-9581-C178EC85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DFBFB-25FA-411C-896D-81BC8E5E7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DFA78-E259-48FB-8C05-043B76BC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882CB-9017-4D43-AF0D-1B43E9CD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80B27-0011-4DE7-B3B1-EEAFD54F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A9A56-5317-45E1-BADB-A14735D3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AEA3F-1D7D-412E-9A86-7A6843C3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9FFA2-4529-4D63-89EC-ED3731A8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D6ABD-87A4-48F8-BBB6-CB40BEBA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AAB0C-8DAA-4886-9B70-B381D5E8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C3E3-9BD4-4F6E-BE5A-37372590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8B6BB-4307-4CBA-B1A6-3DF5FC35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683CF-9475-446D-AE8F-4EEA2949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4F1EB-14CD-40F7-952C-88BC483FE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B6B41-133F-477C-89F4-1E4162658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433E1-CABE-43EC-8F60-524A32F82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F7D5D-6AFA-48FB-939F-BF76E876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A61F5-1060-453D-8B30-A51CF756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625D8-FE25-4B53-9C04-596B526A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AC668-90F2-4274-ABB1-1A4F8C83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43E27-396A-49DE-B7D1-56B32CCF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922-44E3-4845-A091-8AA25905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7C531-9F7B-4753-960B-80E4B59C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6E913-65E3-4B65-AB09-2E9636B9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B5D8F-BF03-4639-9493-107293B9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D0E1E-8777-420A-8DB6-07FF3750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D600F-2152-4E5C-87D0-A25D2B76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CC9CA-CB8C-4835-B4C4-5B738910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36A56-7CED-4E7E-AF27-983132D0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1F72F-ACEA-4B69-9611-1F97C271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44C23-037F-4C24-AA50-EB8EEC8B4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BFD08-F7E6-442C-A0E7-36A05821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3CD-549B-4138-A0DF-2D472CFA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69B97-DBF1-49BD-A032-0E821ABA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34ECE-CDE0-44BE-A942-4335A3CD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34EFC-F31F-4307-B793-6F2F3CC1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CF772-83F4-4280-8BDE-1C396902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2C631-8ADA-4AC0-AB64-1752FB5C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B3BD4-EB5E-400C-B868-B19F0868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58890-1103-432A-98E6-C7CDBE0F5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0F6ED-BBB9-4E8B-8EF4-4348D7C0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2F15E-AA7D-48C4-BF3B-3B760A15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6A5827-439E-4FCF-ABA9-2191793E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AC7D-4C8E-4B37-8C78-5B460B0C097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C74A-1311-4325-841C-D7E091ABDBE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5CBF-7833-488E-B2BC-FCEA944D11D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FF0A1-193E-4935-9932-2CB1341D06D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749A-AA64-4E37-B63B-E2E623AECCB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d84c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9C4D-C59F-4866-B522-899CA575AE3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3BB7-E478-452D-9EB0-729A4D4AE20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8969-CC36-4E92-BDD2-636B16EBA0F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357DD-A37A-4924-8295-6E2A923E44C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576D-05E1-40C1-88BE-32D60372C57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F334-405E-4F95-9097-E18216973F6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1B23-3871-4C06-8288-AEEFCE1C42A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5A07-7B56-47B3-86E4-919CFBE6242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E387-260F-4FD8-BDC9-372D45D4D23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3660-09E8-4FAB-8085-34570CD316A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E577-FBF8-4021-BB16-78F1FB73900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37354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373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3735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d84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d84c6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4A9F7-8BE2-4864-83DE-CA094C003CF0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684000" y="2276640"/>
            <a:ext cx="8135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5400" spc="-1" strike="noStrike">
                <a:solidFill>
                  <a:srgbClr val="262626"/>
                </a:solidFill>
                <a:latin typeface="Century Gothic"/>
              </a:rPr>
              <a:t>EL</a:t>
            </a:r>
            <a:r>
              <a:rPr b="0" lang="es-ES" sz="7200" spc="-1" strike="noStrike">
                <a:solidFill>
                  <a:srgbClr val="262626"/>
                </a:solidFill>
                <a:latin typeface="Century Gothic"/>
              </a:rPr>
              <a:t> SECRETO </a:t>
            </a:r>
            <a:r>
              <a:rPr b="0" lang="es-ES" sz="5400" spc="-1" strike="noStrike">
                <a:solidFill>
                  <a:srgbClr val="262626"/>
                </a:solidFill>
                <a:latin typeface="Century Gothic"/>
              </a:rPr>
              <a:t>DEL</a:t>
            </a:r>
            <a:r>
              <a:rPr b="0" lang="es-ES" sz="72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lang="es-ES" sz="8800" spc="-1" strike="noStrike">
                <a:solidFill>
                  <a:srgbClr val="262626"/>
                </a:solidFill>
                <a:latin typeface="Baskerville Old Face"/>
              </a:rPr>
              <a:t>CRECIMIENTO</a:t>
            </a:r>
            <a:endParaRPr b="0" lang="en-US" sz="8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2070000" y="2060640"/>
            <a:ext cx="5454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imismo es solamente mediante la vida de Dios como se engendra la vida espiritual en el corazón de los hombr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ángulo 1"/>
          <p:cNvSpPr/>
          <p:nvPr/>
        </p:nvSpPr>
        <p:spPr>
          <a:xfrm>
            <a:off x="1187280" y="2205000"/>
            <a:ext cx="70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que había hablado a sus corazones palabras de esperanza y consuelo, fue arrebatado de ellos al cielo mientras les comunicaba aún un mensaje de paz, y los acentos de su 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ángulo 1"/>
          <p:cNvSpPr/>
          <p:nvPr/>
        </p:nvSpPr>
        <p:spPr>
          <a:xfrm>
            <a:off x="1042920" y="2060640"/>
            <a:ext cx="7129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He aquí yo estoy con vosotros todos los días hasta el fin del mundo"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Mateo 28: 2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ángulo 1"/>
          <p:cNvSpPr/>
          <p:nvPr/>
        </p:nvSpPr>
        <p:spPr>
          <a:xfrm>
            <a:off x="971640" y="227664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legaban todavía a ellos, cuando una nube de ángeles lo recibi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bía ascendido al cielo en forma hum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ángulo 1"/>
          <p:cNvSpPr/>
          <p:nvPr/>
        </p:nvSpPr>
        <p:spPr>
          <a:xfrm>
            <a:off x="1116000" y="2349360"/>
            <a:ext cx="6985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Sabían que estaba delante del trono de Dios, como Amigo y Salvador suyo todavía; que sus simpatías no habían cambiado; que estaba aún identificado con la doliente human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ángulo 1"/>
          <p:cNvSpPr/>
          <p:nvPr/>
        </p:nvSpPr>
        <p:spPr>
          <a:xfrm>
            <a:off x="1187280" y="2170080"/>
            <a:ext cx="6913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staba presentando delante de Dios los méritos de su propia sangre, estaba mostrándole sus manos y sus pies traspasados, como memoria del precio que había pagado por sus redim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ángulo 1"/>
          <p:cNvSpPr/>
          <p:nvPr/>
        </p:nvSpPr>
        <p:spPr>
          <a:xfrm>
            <a:off x="1187280" y="217008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abían que él había ascendido al cielo para prepararles lugar y que vendría otra vez para llevarlos consi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ángulo 1"/>
          <p:cNvSpPr/>
          <p:nvPr/>
        </p:nvSpPr>
        <p:spPr>
          <a:xfrm>
            <a:off x="1042920" y="2205000"/>
            <a:ext cx="72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l congregarse después de su ascensión, estaban ansiosos de presentar sus peticiones al Padre en el nombre de Jesú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ángulo 1"/>
          <p:cNvSpPr/>
          <p:nvPr/>
        </p:nvSpPr>
        <p:spPr>
          <a:xfrm>
            <a:off x="1042920" y="2017800"/>
            <a:ext cx="72741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 solemne temor se postraron en oración, repitiendo la promesa: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"Todo cuanto pidiereis al Padre en mi nombre, él os lo dará. Hasta ahora no habéis pedido nada en mi nombre:  pedid y recibiréis, para que vuestro gozo sea completo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San Juan 16: 23, 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ángulo 1"/>
          <p:cNvSpPr/>
          <p:nvPr/>
        </p:nvSpPr>
        <p:spPr>
          <a:xfrm>
            <a:off x="1187280" y="1916280"/>
            <a:ext cx="684072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xtendieron más y más la mano de la fe presentando aquel poderoso argumento: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"¡Cristo Jesús es el que murió; más aún, el que fue levantado de entre los muertos; el que está a la diestra de Dios; el que también intercede por nosotros!"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Romanos 8: 3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ángulo 1"/>
          <p:cNvSpPr/>
          <p:nvPr/>
        </p:nvSpPr>
        <p:spPr>
          <a:xfrm>
            <a:off x="1332000" y="2413080"/>
            <a:ext cx="6696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Y en el día de Pentecostés vino a ellos la presencia del Consolador, del cual Cristo había dicho: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Estará en vosotro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1116000" y="1916280"/>
            <a:ext cx="712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i el hombre n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naciere de nuevo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n Juan 3: 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no puede ser hecho participante de la vida que Cristo vino a d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ángulo 1"/>
          <p:cNvSpPr/>
          <p:nvPr/>
        </p:nvSpPr>
        <p:spPr>
          <a:xfrm>
            <a:off x="1187280" y="2349360"/>
            <a:ext cx="69850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Y les había dicho  más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Os conviene que yo vaya; porque si no me fuere, el Consolador no vendrá a vosotros; mas si me fuere, os le enviaré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San Juan 14: 17 ; 16: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ángulo 1"/>
          <p:cNvSpPr/>
          <p:nvPr/>
        </p:nvSpPr>
        <p:spPr>
          <a:xfrm>
            <a:off x="1403280" y="2243160"/>
            <a:ext cx="648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desde aquel día Cristo había de morar continuamente por el Espíritu en el corazón 75 de sus hij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ángulo 1"/>
          <p:cNvSpPr/>
          <p:nvPr/>
        </p:nvSpPr>
        <p:spPr>
          <a:xfrm>
            <a:off x="1547640" y="2205000"/>
            <a:ext cx="619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 unión con ellos era más estrecha que cuando él estaba personalmente con el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ángulo 1"/>
          <p:cNvSpPr/>
          <p:nvPr/>
        </p:nvSpPr>
        <p:spPr>
          <a:xfrm>
            <a:off x="1042920" y="2276640"/>
            <a:ext cx="712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luz, el amor y el poder de la presencia de Cristo resplandecían en ellos, de tal manera que los hombres, mirándolos,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"se maravillaban; y al fin los reconocían, que eran de los que habían estado con Jesús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Hechos 4: 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ángulo 1"/>
          <p:cNvSpPr/>
          <p:nvPr/>
        </p:nvSpPr>
        <p:spPr>
          <a:xfrm>
            <a:off x="1116000" y="2425680"/>
            <a:ext cx="691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odo lo que Cristo fue para sus primeros discípulos, desea serlo para sus hijos h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ángulo 1"/>
          <p:cNvSpPr/>
          <p:nvPr/>
        </p:nvSpPr>
        <p:spPr>
          <a:xfrm>
            <a:off x="1042920" y="2089080"/>
            <a:ext cx="72010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orque en su última oración, realizada con el pequeño grupo de discípulos que reunió a su alrededor, dijo: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 "No ruego solamente por éstos, sino por aquellos también que han de creer en mí por medio de la palabra de ellos" </a:t>
            </a: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(San Juan 17: 20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ángulo 1"/>
          <p:cNvSpPr/>
          <p:nvPr/>
        </p:nvSpPr>
        <p:spPr>
          <a:xfrm>
            <a:off x="1258920" y="2349360"/>
            <a:ext cx="68421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Jesús oró por nosotros y pidió que fuésemos uno con él, así como él es uno con el Pad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¡Qué unión tan preciosa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ángulo 1"/>
          <p:cNvSpPr/>
          <p:nvPr/>
        </p:nvSpPr>
        <p:spPr>
          <a:xfrm>
            <a:off x="1187280" y="2205000"/>
            <a:ext cx="6913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Salvador había dicho de sí mismo: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 "No puede el Hijo hacer nada de sí mismo", "el Padre, morando en mí, hace sus obras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San Juan 5: 19; 14: 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ángulo 1"/>
          <p:cNvSpPr/>
          <p:nvPr/>
        </p:nvSpPr>
        <p:spPr>
          <a:xfrm>
            <a:off x="1258920" y="2406600"/>
            <a:ext cx="69134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 modo que si Cristo está en nuestro corazón, obrará en nosotros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"así el querer como el obrar a causa de su buena voluntad"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Filipenses 2: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ángulo 1"/>
          <p:cNvSpPr/>
          <p:nvPr/>
        </p:nvSpPr>
        <p:spPr>
          <a:xfrm>
            <a:off x="971640" y="2133720"/>
            <a:ext cx="720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rabajaremos como trabajó él; manifestaremos el mismo espíritu. Y amándole y morando en él así, creceremos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"en todos respectos en el que es la Cabeza, es decir, en Cristo" </a:t>
            </a:r>
            <a:r>
              <a:rPr b="0" lang="es-ES" sz="3000" spc="-1" strike="noStrike">
                <a:solidFill>
                  <a:srgbClr val="000000"/>
                </a:solidFill>
                <a:latin typeface="Calibri"/>
              </a:rPr>
              <a:t>(Efesios 4: 1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1565280" y="2243160"/>
            <a:ext cx="64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 que sucede con la vida, sucede con el crec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ios es el que hace florecer el  capullo y fructificar las fl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1565280" y="1989000"/>
            <a:ext cx="617544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 poder es el que hace a la simiente desarroll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"primero hierba, luego espiga, luego grano lleno en la espiga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Marcos 4: 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1258920" y="1916280"/>
            <a:ext cx="684216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profeta Oseas dice que Israe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echará flores como el lirio". "Serán revivificados como el trigo, y florecerán como la vid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Oseas 14: 5,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1908000" y="2276640"/>
            <a:ext cx="55976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Y Jesús nos dic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"¡Considerad los lirios, cómo crecen!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Lucas 12: 2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5"/>
          <p:cNvSpPr/>
          <p:nvPr/>
        </p:nvSpPr>
        <p:spPr>
          <a:xfrm>
            <a:off x="1116000" y="1914480"/>
            <a:ext cx="7272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s plantas y las flores crecen no por su propio cuidado o solicitud o esfuerzo, sino porque reciben lo que Dios ha proporcionado para que les dé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1781280" y="2274840"/>
            <a:ext cx="5886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niño no puede por su solicitud o poder propio añadir algo a su est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ángulo 1"/>
          <p:cNvSpPr/>
          <p:nvPr/>
        </p:nvSpPr>
        <p:spPr>
          <a:xfrm>
            <a:off x="1854360" y="2276640"/>
            <a:ext cx="574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i vosotros podréis por vuestra solicitud o esfuerzo conseguir el crecimiento espiri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1476360" y="2252520"/>
            <a:ext cx="6480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a planta y el niño crecen al recibir de la atmósfera que los rodea aquello que les da vida: 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aire, el sol y el al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ángulo 1"/>
          <p:cNvSpPr/>
          <p:nvPr/>
        </p:nvSpPr>
        <p:spPr>
          <a:xfrm>
            <a:off x="1476360" y="2098800"/>
            <a:ext cx="6335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la Biblia se llama nacimiento al cambio de corazón por el cual somos hechos hijos de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1908000" y="1987560"/>
            <a:ext cx="5507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 que estos dones de la naturaleza son para los animales y las plantas, es Cristo para los que confían en 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ángulo 1"/>
          <p:cNvSpPr/>
          <p:nvPr/>
        </p:nvSpPr>
        <p:spPr>
          <a:xfrm>
            <a:off x="1854360" y="2292480"/>
            <a:ext cx="5526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es su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luz eterna", "escudo y sol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Isaías 60: 19; Salmo 84: 1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1854360" y="2109960"/>
            <a:ext cx="5670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Será como el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"rocío a Israel". "Descenderá como la lluvia sobre el césped cortado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Oseas 14: 5; Salmo 72: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1781280" y="2421000"/>
            <a:ext cx="5815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es el agua viva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el pan de Dios . . . que descendió del cielo, y da vida al mundo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n Juan 6: 3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1565280" y="1803240"/>
            <a:ext cx="6319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n el don incomparable de su Hijo, ha rodeado Dios al mundo entero en una atmósfera de gracia tan real como el aire que circula en derredor del glob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1258920" y="2058840"/>
            <a:ext cx="6913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odos los que quisieren respirar esta atmósfera vivificante vivirán y crecerán hasta la estatura de hombres y mujeres en Cristo Jesú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1332000" y="2349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mo la flor se torna hacia el sol, a fin de que los brillantes rayos la ayuden a perfeccionar su belleza y simetr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900000" y="1989000"/>
            <a:ext cx="741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í debemos tornarnos hacia el Sol de Justicia, a fin de que la luz celestial brille sobre nosotros, para que nuestro carácter se transforme a la imagen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900000" y="1989000"/>
            <a:ext cx="73440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Jesús enseña la misma cosa cuando dice: 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“¡Permaneced en mí, y yo en vosotros! Como no puede el sarmiento llevar fruto de sí mismo, si no permaneciera en la vid, así tampoco vosotros, si no permaneciereis en mí..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1908000" y="2276640"/>
            <a:ext cx="538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rque separados de mí nada podéis hacer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San Juan 15: 4, 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ángulo 2"/>
          <p:cNvSpPr/>
          <p:nvPr/>
        </p:nvSpPr>
        <p:spPr>
          <a:xfrm>
            <a:off x="1441440" y="4005360"/>
            <a:ext cx="658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sí también vosotros necesitáis del auxilio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ángulo 1"/>
          <p:cNvSpPr/>
          <p:nvPr/>
        </p:nvSpPr>
        <p:spPr>
          <a:xfrm>
            <a:off x="1692360" y="2133720"/>
            <a:ext cx="5975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ambién se lo compara con la germinación de la buena semilla sembrada por el labrad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826920" y="2349360"/>
            <a:ext cx="73454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ara poder vivir una vida santa, como la rama depende del tronco principal para su crecimiento y fructific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Fuera de él no tenéis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1835280" y="2243160"/>
            <a:ext cx="567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hay poder en vosotros para resistir la tentación o para crecer en la gracia o en la sant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1332000" y="231444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orando en él podéis flore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Recibiendo vuestra vida de él, no os marchitaréis ni seréis estér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1"/>
          <p:cNvSpPr/>
          <p:nvPr/>
        </p:nvSpPr>
        <p:spPr>
          <a:xfrm>
            <a:off x="1565280" y="2133720"/>
            <a:ext cx="646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réis como el árbol plantado junto a arroyos de aguas </a:t>
            </a: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Muchos tienen la idea de que deben hacer alguna parte de la obra so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2"/>
          <p:cNvSpPr/>
          <p:nvPr/>
        </p:nvSpPr>
        <p:spPr>
          <a:xfrm>
            <a:off x="1042920" y="1916280"/>
            <a:ext cx="7129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a han confiado en Cristo para el perdón de sus pecados, pero ahora procuran vivir rectamente por sus propios esfuerz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1781280" y="2133720"/>
            <a:ext cx="567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as tales esfuerzos se desvanecerán. Jesús dice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Porque separados de mí nada podéis hacer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1476360" y="2274840"/>
            <a:ext cx="631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uestro crecimiento en la gracia, nuestro gozo, nuestra utilidad, todo depende de nuestra unión con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1"/>
          <p:cNvSpPr/>
          <p:nvPr/>
        </p:nvSpPr>
        <p:spPr>
          <a:xfrm>
            <a:off x="971640" y="234936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olamente estando en comunión con él diariamente, a cada hora permaneciendo en él, es como hemos de crecer en la gra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1"/>
          <p:cNvSpPr/>
          <p:nvPr/>
        </p:nvSpPr>
        <p:spPr>
          <a:xfrm>
            <a:off x="1565280" y="2421000"/>
            <a:ext cx="6246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no es solamente el  autor sino también el consumador de nuestra 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1042920" y="2203560"/>
            <a:ext cx="72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risto es el principio, el fin, la totalidad. Estará con nosotros no solamente al principio y al fin de nuestra carrera, sino en cada paso del cami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ángulo 1"/>
          <p:cNvSpPr/>
          <p:nvPr/>
        </p:nvSpPr>
        <p:spPr>
          <a:xfrm>
            <a:off x="826920" y="1925640"/>
            <a:ext cx="7632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 igual modo los que están recién convertidos a Cristo, son como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niños recién nacidos", "creciendo"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1 S. Pedro 2: 2; Efesios 4: 15)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 la estatura de hombres en Cristo Jesú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1116000" y="2133720"/>
            <a:ext cx="70563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avid dice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A Jehová he puesto siempre delante de mí; porque estando él a mi diestra, no resbalaré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lmo 16: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1258920" y="22431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reguntaréis, tal vez: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¿Cómo permaneceremos en Cristo? "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Del mismo modo en que lo recibisteis al princip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826920" y="2182680"/>
            <a:ext cx="72741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e la manera, pues que recibisteis a Cristo Jesús el Señor, así andad en él”. “El justo...  vivirá por la fe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Colosenses 2: 6; Hebreos 10: 3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ángulo 1"/>
          <p:cNvSpPr/>
          <p:nvPr/>
        </p:nvSpPr>
        <p:spPr>
          <a:xfrm>
            <a:off x="971640" y="2203560"/>
            <a:ext cx="734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béis profesado daros a Dios, con el fin de ser enteramente suyos, para servirle y obedecerle, y habéis aceptado a Cristo como vuestro Salvado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1692360" y="2205000"/>
            <a:ext cx="6029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o podéis por vosotros mismos expiar vuestros pecados o cambiar vuestro coraz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1"/>
          <p:cNvSpPr/>
          <p:nvPr/>
        </p:nvSpPr>
        <p:spPr>
          <a:xfrm>
            <a:off x="1565280" y="2276640"/>
            <a:ext cx="610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as habiéndoos entregado a Dios, creísteis que por causa de Cristo él hizo todo esto por v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1619280" y="2276640"/>
            <a:ext cx="610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or la fe llegasteis a ser de Cristo, y por la fe tenéis que crecer en él dando y tomando a la ve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1422360" y="2098800"/>
            <a:ext cx="631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enéis que darle todo: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corazón, la voluntad, la vida, daros a él para obedecer todos sus requerimi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900000" y="2276640"/>
            <a:ext cx="741708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 debéis tomar todo: a Cristo, la plenitud de toda bendición,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ara que habite en vuestro corazón y para que sea vuestra fuerza, vuestra justicia, vuestra eterna ayuda, a fin de que os dé poder para obedecer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1763640" y="2241720"/>
            <a:ext cx="581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ságrate a Dios todas las mañanas; haz de esto tu primer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ángulo 1"/>
          <p:cNvSpPr/>
          <p:nvPr/>
        </p:nvSpPr>
        <p:spPr>
          <a:xfrm>
            <a:off x="2070000" y="2133720"/>
            <a:ext cx="531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mo la buena simiente en el campo, tienen que crecer y dar fru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1187280" y="2205000"/>
            <a:ext cx="68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a tu oración: 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Tómame ¡oh Señor! como enteramente tuyo. Pongo todos mis planes a tus pies. Úsame hoy en tu servicio. Mora conmigo y sea toda mi  obra hecha en ti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755640" y="213372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ste es un asunto di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ada mañana conságrate a Dios por ese día y somete todos tus planes a él, para ponerlos en práctica o abandonarlos según te lo indicare su providenc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1763640" y="2098800"/>
            <a:ext cx="576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ea puesta así tu vida en las manos de Dios y será cada vez mas semejante a la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1258920" y="2060640"/>
            <a:ext cx="6769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vida en Cristo es una vida de reposo. Puede no haber éxtasis de la sensibilidad, pero debe haber una confianza continua y apacib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1"/>
          <p:cNvSpPr/>
          <p:nvPr/>
        </p:nvSpPr>
        <p:spPr>
          <a:xfrm>
            <a:off x="1547640" y="2205000"/>
            <a:ext cx="6264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Vuestra esperanza no está en vosotros; está en Cristo, vuestra debilidad está unida a su fuerza, vuestra ignorancia a su sabiduría, vuestra fragilidad a su eterno p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1692360" y="1916280"/>
            <a:ext cx="5759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sí que no debéis miraros a vosotros, ni depender de vosotros, mas mirad a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1925640" y="2205000"/>
            <a:ext cx="567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ensad en su amor, en su belleza y en la perfección de su carác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1187280" y="2205000"/>
            <a:ext cx="7056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risto en su abnegación, en su humillación, en su pureza y santidad, en su incomparable amor:  esto es lo que debe contemplar el al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1187280" y="2276640"/>
            <a:ext cx="691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mándole, imitándole, dependiendo enteramente de él, es como seréis transformados a su semej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1547640" y="2130480"/>
            <a:ext cx="624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Jesús dice: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 "Permaneced en mí"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s palabras dan idea de descanso, estabilidad, confianza. También nos invita: 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¡Venid a mí ... y os daré descanso!"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Mateo 11: 2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ángulo 1"/>
          <p:cNvSpPr/>
          <p:nvPr/>
        </p:nvSpPr>
        <p:spPr>
          <a:xfrm>
            <a:off x="1547640" y="1967040"/>
            <a:ext cx="6480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Isaías dice que serán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llamados árboles de justicia, plantados por Jehová  mismo, para que él sea glorificado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Isaías 61: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1042920" y="2349360"/>
            <a:ext cx="712944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s palabras del salmista expresan el mismo pensamiento: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Confía calladamente en Jehová, y espérale con paciencia". 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 Isaías asegura que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en quietud y confianza será vuestra fortaleza"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Salmo 37: 7; Isaías 30: 15)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1403280" y="2284560"/>
            <a:ext cx="6697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ste descanso no se funda en la inactividad:  porque en la invitación del Salvador la promesa de descanso está unida con el llamamiento al trabajo: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Tomad mi yugo sobre vosotros, y…hallaréis descanso"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Mateo 11 : 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1709640" y="2276640"/>
            <a:ext cx="610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corazón que más plenamente descansa en Cristo es el mas ardiente y activo en el trabajo para 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1278000" y="2098800"/>
            <a:ext cx="646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uando el hombre dedica muchos pensamientos a sí mismo, se aleja de Cristo:  manantial de fortaleza y vid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1116000" y="1989000"/>
            <a:ext cx="6985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or esto Satanás se esfuerza constantemente por mantener la atención apartada del Salvador e impedir así la unión y comunión del alma con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971640" y="2060640"/>
            <a:ext cx="7200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s placeres del mundo, los cuidados de la vida y sus perplejidades y tristezas, las faltas de otros o vuestras propias faltas e imperfec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1908000" y="2276640"/>
            <a:ext cx="5597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hacia alguna de estas cosas, o hacia todas ellas, procura desviar la 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1619280" y="2558880"/>
            <a:ext cx="626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o seáis engañados por sus maquin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1"/>
          <p:cNvSpPr/>
          <p:nvPr/>
        </p:nvSpPr>
        <p:spPr>
          <a:xfrm>
            <a:off x="1042920" y="2060640"/>
            <a:ext cx="7201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 muchos que son realmente concienzudos y que desean vivir para Dios, los hace también detenerse a menudo en sus faltas y debilidad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1979640" y="2492280"/>
            <a:ext cx="536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l separarlos así de Cristo, espera obtener la victo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1"/>
          <p:cNvSpPr/>
          <p:nvPr/>
        </p:nvSpPr>
        <p:spPr>
          <a:xfrm>
            <a:off x="1547640" y="2060640"/>
            <a:ext cx="660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el mundo natural se sacan así ilustraciones para ayudarnos a entender mejor las verdades misteriosas de la vida espiri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1116000" y="2133720"/>
            <a:ext cx="70563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Calibri"/>
              </a:rPr>
              <a:t>No debemos hacer de nuestro yo el centro de nuestros pensamientos, ni alimentar ansiedad ni temor acerca de si seremos salvos o n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1547640" y="2241720"/>
            <a:ext cx="63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odo esto es lo que desvía el alma de la Fuente de nuestra fortale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1332000" y="2136600"/>
            <a:ext cx="6553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comendad vuestra alma al cuidado de Dios y confiad en él. Hablad de Jesús y pensad en é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1332000" y="2205000"/>
            <a:ext cx="6480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iérdase en él vuestra personalidad. Desterrad toda duda; disipad vuestros tem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1332000" y="1916280"/>
            <a:ext cx="66247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ecid con el apóstol Pabl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Vivo; mas no ya yo, sino que Cristo vive en mí: y aquella vida que ahora vivo en la carne, la vivo por la fe en el Hijo de Dios, el cual me amó, y se dio a sí mismo por mí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Gálatas 2: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ángulo 1"/>
          <p:cNvSpPr/>
          <p:nvPr/>
        </p:nvSpPr>
        <p:spPr>
          <a:xfrm>
            <a:off x="1998720" y="2025720"/>
            <a:ext cx="552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eposad en Dios. El puede guardar lo que le habéis confia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ángulo 1"/>
          <p:cNvSpPr/>
          <p:nvPr/>
        </p:nvSpPr>
        <p:spPr>
          <a:xfrm>
            <a:off x="1835280" y="2133720"/>
            <a:ext cx="576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os  ponéis en sus manos, él os hará más que vencedores por Aquel que nos am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ángulo 1"/>
          <p:cNvSpPr/>
          <p:nvPr/>
        </p:nvSpPr>
        <p:spPr>
          <a:xfrm>
            <a:off x="1116000" y="2276640"/>
            <a:ext cx="691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uando Cristo se humanó, se unió a sí mismo a la humanidad con un lazo de amor que jamás romperá poder alguno, salvo la elección del hombre mis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ángulo 1"/>
          <p:cNvSpPr/>
          <p:nvPr/>
        </p:nvSpPr>
        <p:spPr>
          <a:xfrm>
            <a:off x="1258920" y="2205000"/>
            <a:ext cx="662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atanás constantemente nos presenta engaños para inducirnos a romper este lazo:  elegir separarnos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ángulo 1"/>
          <p:cNvSpPr/>
          <p:nvPr/>
        </p:nvSpPr>
        <p:spPr>
          <a:xfrm>
            <a:off x="1854360" y="2089080"/>
            <a:ext cx="56703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400" spc="-1" strike="noStrike">
                <a:solidFill>
                  <a:srgbClr val="000000"/>
                </a:solidFill>
                <a:latin typeface="Calibri"/>
              </a:rPr>
              <a:t>Sobre esto necesitamos velar, luchar, orar, para que ninguna cosa pueda inducirnos a elegir otro maestro; pues estamos siempre libres para hacer est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1763640" y="1987560"/>
            <a:ext cx="604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oda la sabiduría e inteligencia de los hombres no puede dar vida al objeto más pequeño de la natural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ángulo 1"/>
          <p:cNvSpPr/>
          <p:nvPr/>
        </p:nvSpPr>
        <p:spPr>
          <a:xfrm>
            <a:off x="1547640" y="2314440"/>
            <a:ext cx="61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as tengamos los ojos fijos en Cristo, y él nos preservará. Confiando en Jesús estamos segu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ángulo 1"/>
          <p:cNvSpPr/>
          <p:nvPr/>
        </p:nvSpPr>
        <p:spPr>
          <a:xfrm>
            <a:off x="1692360" y="2060640"/>
            <a:ext cx="6192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ada puede arrebatarnos de su mano. Mirándolo constantemente,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“somos transformados en la misma semejanza, de gloria en gloria, así como por el Espíritu del Señor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2 Corintios 3: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ángulo 1"/>
          <p:cNvSpPr/>
          <p:nvPr/>
        </p:nvSpPr>
        <p:spPr>
          <a:xfrm>
            <a:off x="1332000" y="199692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sí fue como los primeros discípulos se hicieron semejantes a nuestro Salvador. Cuando ellos oyeron las palabras de Jesús, sintieron su necesidad de É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ángulo 1"/>
          <p:cNvSpPr/>
          <p:nvPr/>
        </p:nvSpPr>
        <p:spPr>
          <a:xfrm>
            <a:off x="1476360" y="2133720"/>
            <a:ext cx="63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 buscaron, lo encontraron, lo siguieron. Estaban con él en la casa, a la mesa, en su retiro, en el ca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ángulo 1"/>
          <p:cNvSpPr/>
          <p:nvPr/>
        </p:nvSpPr>
        <p:spPr>
          <a:xfrm>
            <a:off x="1258920" y="234936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taban con él como discípulos con un maestro, recibiendo diariamente de sus labios lecciones de santa ver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ángulo 1"/>
          <p:cNvSpPr/>
          <p:nvPr/>
        </p:nvSpPr>
        <p:spPr>
          <a:xfrm>
            <a:off x="1476360" y="2128680"/>
            <a:ext cx="62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Lo miraban como los siervos a su señor, para aprender sus debe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ángulo 1"/>
          <p:cNvSpPr/>
          <p:nvPr/>
        </p:nvSpPr>
        <p:spPr>
          <a:xfrm>
            <a:off x="1332000" y="2276640"/>
            <a:ext cx="65530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quellos discípulos eran hombres sujetos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 "a las mismas debilidades que nosotros"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antiago 5: 1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ángulo 1"/>
          <p:cNvSpPr/>
          <p:nvPr/>
        </p:nvSpPr>
        <p:spPr>
          <a:xfrm>
            <a:off x="1835280" y="2205000"/>
            <a:ext cx="59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Tenían la misma batalla con el pecado, necesitaban la misma gracia, a fin de poder vivir una vida s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ángulo 1"/>
          <p:cNvSpPr/>
          <p:nvPr/>
        </p:nvSpPr>
        <p:spPr>
          <a:xfrm>
            <a:off x="1403280" y="2205000"/>
            <a:ext cx="66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un Juan, el discípulo amado, el que más plenamente llegó a reflejar la imagen del  salvador, no poseía naturalmente esa belleza de carác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ángulo 1"/>
          <p:cNvSpPr/>
          <p:nvPr/>
        </p:nvSpPr>
        <p:spPr>
          <a:xfrm>
            <a:off x="1547640" y="1987560"/>
            <a:ext cx="61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solamente hacía valer sus derechos y ambicionaba honores, sino que era impetuoso y se resentía bajo las injur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2286000" y="1996920"/>
            <a:ext cx="4572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olamente por la vida que Dios mismo les ha dado pueden vivir las plantas y lo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ángulo 1"/>
          <p:cNvSpPr/>
          <p:nvPr/>
        </p:nvSpPr>
        <p:spPr>
          <a:xfrm>
            <a:off x="1619280" y="2205000"/>
            <a:ext cx="624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as cuando se le manifestó el carácter de Cristo, vio sus defectos y el conocimiento de ellos lo humill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ángulo 1"/>
          <p:cNvSpPr/>
          <p:nvPr/>
        </p:nvSpPr>
        <p:spPr>
          <a:xfrm>
            <a:off x="826920" y="2205000"/>
            <a:ext cx="75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a fortaleza y la paciencia, el poder y la ternura, la majestad y la mansedumbre que él vio en la vida diaria del Hijo de Dios, llenaron su alma de admiración y am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ángulo 1"/>
          <p:cNvSpPr/>
          <p:nvPr/>
        </p:nvSpPr>
        <p:spPr>
          <a:xfrm>
            <a:off x="1584360" y="2170080"/>
            <a:ext cx="6083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e día en día era su corazón atraído hacia Cristo, hasta que se olvidó de sí mismo por amor a su Maestr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ángulo 1"/>
          <p:cNvSpPr/>
          <p:nvPr/>
        </p:nvSpPr>
        <p:spPr>
          <a:xfrm>
            <a:off x="1854360" y="2139840"/>
            <a:ext cx="5597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 genio, resentido y ambicioso, cedió al poder transformador de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ángulo 1"/>
          <p:cNvSpPr/>
          <p:nvPr/>
        </p:nvSpPr>
        <p:spPr>
          <a:xfrm>
            <a:off x="1692360" y="2386080"/>
            <a:ext cx="610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influencia regeneradora del Espíritu Santo renovó su cora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ángulo 1"/>
          <p:cNvSpPr/>
          <p:nvPr/>
        </p:nvSpPr>
        <p:spPr>
          <a:xfrm>
            <a:off x="1403280" y="2098800"/>
            <a:ext cx="6318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poder del amor de Cristo transformó su carác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te es el resultado seguro de la unión con Jesú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ángulo 1"/>
          <p:cNvSpPr/>
          <p:nvPr/>
        </p:nvSpPr>
        <p:spPr>
          <a:xfrm>
            <a:off x="1638360" y="2170080"/>
            <a:ext cx="588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ando Cristo habita en el corazón, la naturaleza entera se trans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ángulo 1"/>
          <p:cNvSpPr/>
          <p:nvPr/>
        </p:nvSpPr>
        <p:spPr>
          <a:xfrm>
            <a:off x="1619280" y="2060640"/>
            <a:ext cx="604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Espíritu de Cristo y su amor, ablandan el corazón, someten el alma y elevan los pensamientos y deseos a Dios y al ciel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ángulo 1"/>
          <p:cNvSpPr/>
          <p:nvPr/>
        </p:nvSpPr>
        <p:spPr>
          <a:xfrm>
            <a:off x="1332000" y="2205000"/>
            <a:ext cx="633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uando Cristo ascendió a los cielos, la sensación de su presencia permaneció aún con los que le seguí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ángulo 1"/>
          <p:cNvSpPr/>
          <p:nvPr/>
        </p:nvSpPr>
        <p:spPr>
          <a:xfrm>
            <a:off x="1422360" y="2060640"/>
            <a:ext cx="617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ra una presencia personal, llena de amor y lu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Jesús, el Salvador, que había andado y conversado y orado con ell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21:02:01Z</dcterms:created>
  <dc:creator>Orlando Rosales</dc:creator>
  <dc:description/>
  <dc:language>en-US</dc:language>
  <cp:lastModifiedBy>Karina de Martin</cp:lastModifiedBy>
  <dcterms:modified xsi:type="dcterms:W3CDTF">2017-03-13T14:55:07Z</dcterms:modified>
  <cp:revision>32</cp:revision>
  <dc:subject/>
  <dc:title>CAPÍTULO 8. El Secreto del Crecimiento </dc:title>
</cp:coreProperties>
</file>